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D7F-1658-449F-8911-793EEA7D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962-76A7-4AFE-9614-E5EC5ACB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180-D5E2-404E-A7AF-9EADEEBD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1A4-C718-4E4E-ADF5-667D326B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566-2C23-4BFF-9CB6-A82AFA9C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BA7-9474-46D5-9932-F8807FDC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A4B-4C85-44A2-9A66-EB5D0CF6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A8E-5DFF-4115-9CE1-47A9FCB2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70B-21FF-4DDC-B3C3-4D837362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D2C-1278-4324-BF9B-89F30A0B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E31-D2A1-467B-806B-22944A3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428-3AF2-4D6B-B815-5FAF1E6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9E1D-C79D-4365-B5BE-187F2318F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a50021"/>
                </a:solidFill>
                <a:latin typeface="Verdana"/>
              </a:rPr>
              <a:t>Francophones</a:t>
            </a:r>
            <a:r>
              <a:rPr b="0" lang="es-E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5400" spc="-1" strike="noStrike">
                <a:solidFill>
                  <a:srgbClr val="990033"/>
                </a:solidFill>
                <a:latin typeface="Verdana"/>
              </a:rPr>
              <a:t>célèb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0100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u connais ce dessinateur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Z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s’appelle Philippe Chapp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n pseudonyme est Z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né à Genève, en  Su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’est le créateur de Tite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l est mort… Tu le conna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0892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Gustave Eiff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s’appelle Gustave 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est ingén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est né à Dijon, e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a construit la Tour Eiffel pour l’Exposition Universelle de 18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our Eiffel est le monument le plus visité au mo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43280" y="1600200"/>
            <a:ext cx="352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Éric Abi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456000" cy="44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s’appelle Éric Abid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joueur de football dans le F.C. Barce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n poste est latéral-ga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né en France, mais il est d’origine martiniqua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’es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528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Gérard Depard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s’appelle Gérard Depard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a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franç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’est l’acteur français le mieux pay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a été “Cyran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Bergerac” et “Obél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45212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29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Carla Br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'appelle Carla Br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'est la femme du Président de la Répub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a été top model et chant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née en Italie, mais elle habite à Paris,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29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Audrey Taut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'appelle Audrey Tau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act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a fait des films comme "Le fabuleux destin d'Amélie Poulain, "L'auberge espagnole" ou "Coco avant Chanel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 le conna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14560" y="148428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Tony Par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s'appelle Tony Park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surnom est TP (ti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joueur de basket professionnel franç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né à Brugge, en Belg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équipe est San Antonio, de la N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5892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Céline D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’appelle Céline D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née à Charlemagne, au Québec (Canad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chant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chante en anglais et en franç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38228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40:24Z</dcterms:created>
  <dc:creator>nombre</dc:creator>
  <dc:description/>
  <dc:language>en-US</dc:language>
  <cp:lastModifiedBy>nombre</cp:lastModifiedBy>
  <dcterms:modified xsi:type="dcterms:W3CDTF">2010-11-14T20:37:32Z</dcterms:modified>
  <cp:revision>4</cp:revision>
  <dc:subject/>
  <dc:title>Qui est-ce?</dc:title>
</cp:coreProperties>
</file>